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AF4E-5D9E-4040-98C8-DE6725DD0E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380520" y="4267080"/>
            <a:ext cx="6172200" cy="4267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acing TCP/IP Activity with the Kernel Logg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able the kernel logger and have it generate a log file of TCP/IP activity,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Performance Tool, and select the Performance Logs And Alerts n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ce Logs, and then select New Log Settings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mpted, enter a name for the settings (for example, experi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ialog box that opens, select the Events Logged By System Provider option  and then deselect everything except the Network TCP/IP op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As edit box, enter the Administrator account name and set the password to match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miss the dialog box, and generate network activity by opening a browser and  visiting a Web si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trace log you created in the trace log node, and select Stop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command prompt, and change to the C:\Perflogs directory (or the directory into which you specified that the trace log file be sto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r Windows Server 20003, run Tracerpt (located  in the \Windows\System32 directory) and pass it the name of the trace log file. If  you are running Windows 2000, download and run Tracedmp from the Windows  2000 Resource Kit. Both tools generate two files: dumpfile.csv and summary.t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umpfile.csv in Microsoft Excel or in a text editor. You should see TCP and/ or UDP trace recor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457200"/>
            <a:ext cx="4572000" cy="3429000"/>
          </a:xfrm>
          <a:prstGeom prst="rect">
            <a:avLst/>
          </a:prstGeom>
          <a:ln w="0">
            <a:noFill/>
          </a:ln>
        </p:spPr>
      </p:sp>
      <p:sp>
        <p:nvSpPr>
          <p:cNvPr id="13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Generate an Easy C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traightforward Notmyfault crash to debug is the one caused by selecting the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QL Fault (Kernelmode) option and clicking the Do Bug button. This causes the driv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e a page of paged pool, free the pool, raise the IRQL to above DPC/dispatch level,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to touch the page it has freed. (See Chapter 3 for more information on IRQLs.) I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n’t cause a crash, the process continues by reading memory past the end of the page unt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uses a crash by accessing invalid pages. The driver performs several illegal operations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references memory that doesn’t belong 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t references paged pool at an IRQL that’s DPC/dispatch level or higher, which is illeg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page faults are not permitted when the processor IRQL is DPC/dispatch level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t goes past the end of the memory that it had allocated, it tries to referenc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s potentially inva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the first page reference might not cause a crash is that it won’t generate a page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age that the driver frees remains in the system working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19320" y="457200"/>
            <a:ext cx="4572000" cy="3429000"/>
          </a:xfrm>
          <a:prstGeom prst="rect">
            <a:avLst/>
          </a:prstGeom>
          <a:ln w="0">
            <a:noFill/>
          </a:ln>
        </p:spPr>
      </p:sp>
      <p:sp>
        <p:nvSpPr>
          <p:cNvPr id="14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Objective: Analyzing an Easy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reboot after the crash generated in the “Generating an Easy Crash” lab, run Windbg (part of the Debugging Tools for Windows – a free download from www.microsoft.c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 have configured the symbol path (click File-&gt;Set Symbol Path) to use the Microsoft symbol server.  Set the symbol path to:</a:t>
            </a: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700" spc="-1" strike="noStrike">
                <a:solidFill>
                  <a:srgbClr val="000000"/>
                </a:solidFill>
                <a:latin typeface="Courier New"/>
              </a:rPr>
              <a:t>srv*c:\symbols*http://msdl.microsoft.com/download/symb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 more information on symbols, see </a:t>
            </a:r>
            <a:r>
              <a:rPr b="0" lang="en-US" sz="700" spc="-1" strike="noStrike">
                <a:solidFill>
                  <a:srgbClr val="000000"/>
                </a:solidFill>
                <a:latin typeface="Arial"/>
              </a:rPr>
              <a:t>http://www.microsoft.com/whdc/ddk/debugging/symbols.mspx)</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hing to note is that Windbg reports errors trying to load symbols for Myfault.sys and Notmyfault.exe. These are expected because the symbol files for them are not on the symbol-file path (which is configured to point at the Microsoft symbol server). You’ll see similar errors for third-party drivers and executables that do not ship with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alysis text itself is terse, showing the numeric stop code and bug check parameters follow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a “probably caused by” line that shows the analysis engine’s best guess at the off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In this case it’s on the mark and points directly at Myfault.sys, so there’s no need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the basic analysis of the Notmyfault crash identifies the faulty driver, you shou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ways have the debugger execute a verbose analysis by entering the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alyze –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obvious difference between the verbose and default analysis is the description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code and its parame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aves you the trouble of opening the help file to find the same information, and the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suggests troubleshooting steps, an example of which you’ll see in the next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advanced crash dump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ther potentially useful information in a verbose analysis is the stack trace of the th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as executing on the processor that crashed at the time of the crash. Here’s what it loo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for the same dum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CK_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RNING: Stack unwind information not available. Following frames may be wr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c34 804ac5de ff7c4040 beb4bf68 ff80a9c8 myfault+0x35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00 804a8f1e 00000070 00000000 00000000 nt!IopXxxControlFile+0x5e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80461691 00000070 00000000 00000000 nt!NtDeviceIoControlFile+0x2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77f96be2 00000070 00000000 00000000 nt!KiSystemService+0xc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4a0 77e84c9b 00000070 00000000 00000000 ntdll!ZwDeviceIoControlFile+0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504 004017c3 00000070 83360018 00000000 KERNEL32!DeviceIoControl+0x1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0200ac 00000000 00000000 00000000 00000000 NotMyfault+0x17c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ceding stack shows that the Notmyfault executable image, shown at the bot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ked the DeviceIoControl function in Kernel32.dll, which in turn invoked ZwDeviceIoControl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Ntdll.dll, and so on, until finally, the system crashed with the execution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 in the Myfault image. A stack trace like this can be useful because crashes some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r as the result of one driver passing another one improperly formatted, corrupt,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s illegal parameters. The driver that’s passed the invalid data might cause a cras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blame in an analysis, when the stack reveals that another driver was involved. In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trace, no driver other than myfault is listed. (The module “nt” is Ntoskrn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singled out by an analysis is unfamiliar to you, use the lm (list module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ok at the driver’s version information. Add the k (kernel modules) and v (verb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along with the m (match) option followed by the name of the driver and a wild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d&gt; lm kv m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rt end modul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224d000 f224dbe0 myfault (d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 path: \??\C:\WINNT\system32\drivers\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imestamp: Thu Apr 29 14:53:12 2004 (40915D28) Checksum: 000100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Size : 00000BE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flags: 0 (Mask 3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OS: 40004 NT Win3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type: 3.7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date: 00000000.0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nslations: 0409.04b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nyName: Sysintern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Name: Sysinternals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al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iginalFile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Description: Crash Test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galCopyright: Copyright (C) M. Russinovich 2002-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using the description to identify the purpose of a driver, you can also use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duct version numbers to see whether the version installed is the most up-to-date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You can do this by checking the vendor Web site, for instance.) If version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n’t present (because it might have been paged out of physical memory at the tim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rash), look at the driver image file’s properties in Explorer on the system that crash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457200"/>
            <a:ext cx="4572000" cy="3429000"/>
          </a:xfrm>
          <a:prstGeom prst="rect">
            <a:avLst/>
          </a:prstGeom>
          <a:ln w="0">
            <a:noFill/>
          </a:ln>
        </p:spPr>
      </p:sp>
      <p:sp>
        <p:nvSpPr>
          <p:cNvPr id="14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Generating a Buffer Overflow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far the most common source of crashes on Windows is pool corruption.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occurs when a driver suffers from a buffer overrun or buffer underrun bug that ca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to overwrite data past either the end or start of a buffer it has allocated from paged or nonp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ol. The Executive’s pool-tracking structures reside on either side of a pool buff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uffers from each other. These bugs, therefore, cause corruption to the pool tra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ctures, to buffers owned by other drivers, or to both. The crashes caused by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virtually impossible to debug because the system crashes when corrupted data is referen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when the corruption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assist in catching these difficult corruptions, Windows XP Service Pack 2 and l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s pool-block tail checking at all times. Thus, buffer overruns are likely to cause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mediate BAD_POOL_HEADER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generate a pool corruption crash by running Notmyfault and selecting the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flow bug. This causes Myfault to allocate a buffer and then overwrite the 40 bytes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uffer. There can be a significant delay between the time you click the Do Bug butt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crash occurs, and you might even have to generate pool usage by exercising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a crash occurs, which highlights the distance between a corruption and its effect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stability. An analysis of the resultant crash almost always reports Ntoskrnl or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s being the likely cause, which demonstrates the usefulness of a verbose analysi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description of the stop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IVER_CORRUPTED_EXPOOL (c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ttempt was made to access a pageable (or completely invalid) address at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rupt request level (IRQL) that is too high. This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used by drivers that have corrupted the system pool. Run th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erifier against any new (or suspect) drivers, and if that doesn’t turn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lprit, then use gflags to enable special p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vice in the description is to run the Driver Verifier against any new or suspect driver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use Gflags to enable special pool. Both accomplish the same thing: to have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 a potential corruption when it occurs and crash the system in a way that mak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nalysis point at the driver causing the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Verifier’s special pool option is enabled, verified drivers use special pool, ra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 paged or nonpaged pool, for any allocations they make for buffers slightly less tha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in size. A buffer allocated from special pool is sandwiched between two invalid pag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default is aligned against the top of the page. The special pool routines also fill the un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ions of the page in which the buffer resides with a random patter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detects any buffer overruns of under a page in size at the time of the overr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they cause a page fault on the invalid page following the buffer. The signature 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catch buffer underruns at the time the driver frees a buffer because the integrity of the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d there at the time of allocation will have been compromi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457200"/>
            <a:ext cx="4572000" cy="3429000"/>
          </a:xfrm>
          <a:prstGeom prst="rect">
            <a:avLst/>
          </a:prstGeom>
          <a:ln w="0">
            <a:noFill/>
          </a:ln>
        </p:spPr>
      </p:sp>
      <p:sp>
        <p:nvSpPr>
          <p:cNvPr id="1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Using Verifier to Catch a Buffer Over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use of special pool causes a crash that the analysis engine easily diagnoses, 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Manager (Verifier.exe). On Windows 2000 systems, go to the Settings tab,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ault.sys in the edit box at the bottom of the page where it allows you to specify addi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select the special pool check box, apply the changes, exit the Driver Verifier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boot. On Windows XP and Windows Server 2003, choose the Create Custo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de Developers) option on the first page of the wizard, choose Select Individual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Full List on the second, and select Special Pool. Choose the Select Drivers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st option on the subsequent page, and on the page that lists drivers type myfault.sys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Find dialog box after pressing the button to add unloaded drivers. (You do not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myfault.sys in the File Find dialog box; just enter its name.) Then check the myfault.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exit the wizard, and reb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run Notmyfault again and cause a buffer overflow, the system will immediately crash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of the dump reports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bably caused by : myfault.sys ( myfault+3f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pool made an elusive bug into one that instantly reveals itself and makes th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vi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457200"/>
            <a:ext cx="4572000" cy="3429000"/>
          </a:xfrm>
          <a:prstGeom prst="rect">
            <a:avLst/>
          </a:prstGeom>
          <a:ln w="0">
            <a:noFill/>
          </a:ln>
        </p:spPr>
      </p:sp>
      <p:sp>
        <p:nvSpPr>
          <p:cNvPr id="12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performance and boot/startup mechanisms implemented inside the Windows operating system. Students are expected to carry out Labs in addition to studying the learning materials in Unit OS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19320" y="457200"/>
            <a:ext cx="4572000" cy="3429000"/>
          </a:xfrm>
          <a:prstGeom prst="rect">
            <a:avLst/>
          </a:prstGeom>
          <a:ln w="0">
            <a:noFill/>
          </a:ln>
        </p:spPr>
      </p:sp>
      <p:sp>
        <p:nvSpPr>
          <p:cNvPr id="12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ing Kernel Mode vs User Mode Processo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see how much time your system spends executing in kernel mode vs. in user mode. Follow thes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un the Performance tool by opening the Start menu and selecting Programs/Administrative Tools/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the Add button (+) o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ith the Processor performance object selected, click the % Privileged Time counter and, while holding down the Ctrl key, click the % User Tim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lick Add, and then click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ve the mouse rapidly back and forth. You should notice the % Privileged Time line going up when you move the mouse around, reflecting the time spent servicing the mouse interrupts and the time spent in the graphics part of the windowing system (which, as explained in Chapter 2, runs primarily as a device driver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you’re finished, click the New Counter Set button on the toolbar (or just close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quickly see this activity by using Task Manager. Just click the Performance tab, and then select Show Kernel Times from the View menu. The CPU usage bar will show user-mode time in green and kernel-mode time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19320" y="457200"/>
            <a:ext cx="4572000" cy="3429000"/>
          </a:xfrm>
          <a:prstGeom prst="rect">
            <a:avLst/>
          </a:prstGeom>
          <a:ln w="0">
            <a:noFill/>
          </a:ln>
        </p:spPr>
      </p:sp>
      <p:sp>
        <p:nvSpPr>
          <p:cNvPr id="12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Observe Performance Tool’s CPU U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Performance tool itself uses kernel time and user time, run it again, but add the individual Process counters % User Time and % Privileged Time for every process in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f it’s not already running, run the Performance tool again. (If it is already running, start with a blank display by pressing the New Counter Set button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lick the Add button (+)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hange the Performance Object to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elect the % Privileged Time and % User Time cou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elect all processes in the Instance box (except the _Total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lick Add, and then click Cl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Move the mouse rapidly back and for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Ctrl+H to turn on highlighting mode. This highlights the currently selected counter in white on Windows 2000 and black on Windows XP and Windows Server 20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roll through the counters at the bottom of the display to identify the processes whose threads were running when you moved the mouse, and note whether they were running in user mode or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see the Performance tool process (by looking in the Instance column for the mmc process) kernel-mode and user-mode time go up when you move the mouse because it is executing application code in user mode and calling Windows functions that run in kernel mode. You’ll also notice kernel-mode thread activity in a process named csrss when you move the mouse. This activity occurs because the Windows sub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raw input thread, which handles keyboard and mouse input, is attached to this pro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process named Idle that you see spending nearly 100 percent of its time in kernel mode isn’t really a process—it’s a fake process used to account for idle CPU cycles. As you can observe from the mode in which the threads in the Idle process run, when Windows has nothing to do, it does it in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19320" y="457200"/>
            <a:ext cx="4572000" cy="3429000"/>
          </a:xfrm>
          <a:prstGeom prst="rect">
            <a:avLst/>
          </a:prstGeom>
          <a:ln w="0">
            <a:noFill/>
          </a:ln>
        </p:spPr>
      </p:sp>
      <p:sp>
        <p:nvSpPr>
          <p:cNvPr id="12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easure CPU Utilization under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generate a high CPU load and observe the activity with Process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19320" y="457200"/>
            <a:ext cx="4572000" cy="3429000"/>
          </a:xfrm>
          <a:prstGeom prst="rect">
            <a:avLst/>
          </a:prstGeom>
          <a:ln w="0">
            <a:noFill/>
          </a:ln>
        </p:spPr>
      </p:sp>
      <p:sp>
        <p:nvSpPr>
          <p:cNvPr id="13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 example screen snapshot on a 4 way multiprocessor system using Process Explorer’s System Information displ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19320" y="457200"/>
            <a:ext cx="4572000" cy="3429000"/>
          </a:xfrm>
          <a:prstGeom prst="rect">
            <a:avLst/>
          </a:prstGeom>
          <a:ln w="0">
            <a:noFill/>
          </a:ln>
        </p:spPr>
      </p:sp>
      <p:sp>
        <p:nvSpPr>
          <p:cNvPr id="13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user mode vs kernel mode CPU consumption with Performance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observe per-process CPU consumption of a process consuming user mode time and then mainly kernel mode ti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19320" y="457200"/>
            <a:ext cx="4572000" cy="3429000"/>
          </a:xfrm>
          <a:prstGeom prst="rect">
            <a:avLst/>
          </a:prstGeom>
          <a:ln w="0">
            <a:noFill/>
          </a:ln>
        </p:spPr>
      </p:sp>
      <p:sp>
        <p:nvSpPr>
          <p:cNvPr id="1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a low memory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Optimize.exe program (part of the CRK tools – source code included) allocates a very large amount of virtual memory (80% of physical memory), modifies each page by setting the first 32-bits to 1 (which forces the memory manager to create real pages), and then exits, causing all the of the physical memory to be returned to the free list (and then zeroed).  While allocating and initializing the virtual memory, the operating system is forced to shrink the working set of other processes (and the system cache), which causes private pages to be written to the paging file (as well as virtual memory from the RamOptimiz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mOptimize process exits, the paging file usage will go down, but should be higher than it was before running it at all. Available bytes should be much higher than it was before, since the memory used by RamOptimize returns to the free memory list (and ultimately gets zeroed and put on the zero pag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47EE17-7939-400D-94FC-9B2B213A05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E88936-83A9-42E5-94C8-F570F85B6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D81984-C75B-49B5-A056-AAE2C948DB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F4A655-DD24-425F-A5A0-AA1C4EB434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2FB74-93D5-4E91-AE39-0FA0CD34F8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B2073-B2F3-47FD-BA8E-B0AB25AA2F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10981D-8C55-4E66-9FAB-1F9D35569D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6B26B6-542E-457C-8C55-C45FE30466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8411F-4ACD-4ADF-AE44-7F998DAF25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7DF613-8485-48BF-8EE9-3789BEA4B0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21375-2C7E-40A1-9A87-706D9B97A4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45E338-5F2F-4FD2-920E-389ECD5B1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9873-010D-4F1A-86DB-F125B884D28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Tracing TCP/IP Activity</a:t>
            </a:r>
            <a:endParaRPr b="0" lang="en-US" sz="4000" spc="-1" strike="noStrike">
              <a:solidFill>
                <a:srgbClr val="fe9900"/>
              </a:solidFill>
              <a:latin typeface="Arial"/>
            </a:endParaRPr>
          </a:p>
        </p:txBody>
      </p:sp>
      <p:sp>
        <p:nvSpPr>
          <p:cNvPr id="111" name="PlaceHolder 2"/>
          <p:cNvSpPr>
            <a:spLocks noGrp="1"/>
          </p:cNvSpPr>
          <p:nvPr>
            <p:ph/>
          </p:nvPr>
        </p:nvSpPr>
        <p:spPr>
          <a:xfrm>
            <a:off x="457200" y="1752120"/>
            <a:ext cx="2819520" cy="29718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tool can enable logg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pt.exe and tracedmp.exe generate dumpfile.csv and summary.txt</a:t>
            </a:r>
            <a:br>
              <a:rPr sz="2000"/>
            </a:br>
            <a:r>
              <a:rPr b="0" lang="en-US" sz="2000" spc="-1" strike="noStrike">
                <a:solidFill>
                  <a:srgbClr val="ffffff"/>
                </a:solidFill>
                <a:latin typeface="Arial"/>
              </a:rPr>
              <a:t>(see notes)</a:t>
            </a:r>
            <a:endParaRPr b="0" lang="en-US" sz="2000" spc="-1" strike="noStrike">
              <a:solidFill>
                <a:srgbClr val="ffffff"/>
              </a:solidFill>
              <a:latin typeface="Arial"/>
            </a:endParaRPr>
          </a:p>
        </p:txBody>
      </p:sp>
      <p:pic>
        <p:nvPicPr>
          <p:cNvPr id="112" name="" descr=""/>
          <p:cNvPicPr/>
          <p:nvPr/>
        </p:nvPicPr>
        <p:blipFill>
          <a:blip r:embed="rId3"/>
          <a:stretch/>
        </p:blipFill>
        <p:spPr>
          <a:xfrm>
            <a:off x="3276720" y="1752480"/>
            <a:ext cx="5638680" cy="3969000"/>
          </a:xfrm>
          <a:prstGeom prst="rect">
            <a:avLst/>
          </a:prstGeom>
          <a:ln w="0">
            <a:noFill/>
          </a:ln>
        </p:spPr>
      </p:pic>
      <p:pic>
        <p:nvPicPr>
          <p:cNvPr id="113" name="" descr=""/>
          <p:cNvPicPr/>
          <p:nvPr/>
        </p:nvPicPr>
        <p:blipFill>
          <a:blip r:embed="rId4"/>
          <a:stretch/>
        </p:blipFill>
        <p:spPr>
          <a:xfrm>
            <a:off x="228600" y="4800600"/>
            <a:ext cx="5702400" cy="1882800"/>
          </a:xfrm>
          <a:prstGeom prst="rect">
            <a:avLst/>
          </a:prstGeom>
          <a:ln w="0">
            <a:noFill/>
          </a:ln>
        </p:spPr>
      </p:pic>
      <p:sp>
        <p:nvSpPr>
          <p:cNvPr id="4" name="PlaceHolder 3"/>
          <p:cNvSpPr>
            <a:spLocks noGrp="1"/>
          </p:cNvSpPr>
          <p:nvPr>
            <p:ph type="sldNum" idx="2"/>
          </p:nvPr>
        </p:nvSpPr>
        <p:spPr/>
        <p:txBody>
          <a:bodyPr/>
          <a:p>
            <a:fld id="{04B1E27B-1283-44E9-BE4B-B8E524BEF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Generating an Easy Crash</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High IRQL fault (kernel mod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s the driver to:</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e a paged pool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he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 IRQL ≥ DISPATCH_LEVEL</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uch the buffer ,which causes a crash</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C31F7F-5931-418E-A72E-BD9CE0E8FC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Analyzing an Easy Crash</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generating the crash from the “Generating an Easy Crash” lab, when the system reboots, analyze the crash as follow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indbg (Debugging Tools for Window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symbol path to use Microsoft symbol server</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rash dump (in \Windows\Minidump\xxx.d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bugger should show the probable cause of the crash as Myfault.sy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79E8D9-767E-4124-842B-EC6C3FBBD3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Buffer Overflow Crash</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otMyFault (from Sysinternals) and select “Buffer Overflow”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Do Bu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uses the Myfault driver to allocate a buffer and then overwrite the 40 bytes follow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stem may not crash immediately since the corrupted buffer may not be referenced right away</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ystem does not crash, keep clicking “Do Bug” until it do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reboot, open the crash with WinDbg to see the probable ca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5973D7A-13D4-48E7-87E6-3F8BA85AB4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Verifier to Catch a Buffer Overflow</a:t>
            </a:r>
            <a:endParaRPr b="0" lang="en-US" sz="36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Verifier.exe (in \Windows\System32) and enable Special Pool on Myfault.sy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Buffer Overflow”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 – the system will crash instantly</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nd analyze the crash</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D1F51-1251-4C89-B106-2FE8DAD0369A}"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D46AABB-AEAD-4C99-9C37-B006882FE5B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consump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memory condi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7B8BCB-C737-4090-A5F0-0F06524A72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serving Kernel Mode vs User Mode Processor Time</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Tool (perfmon.msc)</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he Add button (+) on the toolba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Processor performance object selected, click the % Privileged Time counter and, while holding down the Ctrl key, click the % User Time counte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Add, and then click Close.</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he mouse rapidly back and forth and notice % Privileged Time line going up when you move the mouse arou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4629B8-DD36-45F9-BBAC-7DFD3E64E1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jective: Observe Performance Tool’s CPU Usage</a:t>
            </a:r>
            <a:endParaRPr b="0" lang="en-US" sz="36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un the Performance Tool (perfmon.msc)</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lick the Add button (+) on the toolbar</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hange the Performance Object to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elect the % Privileged Time and % User Time count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lect all processes in the Instance box (except the _Total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Click Add, and then click Clos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ove the mouse rapidly back and forth</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ress Ctrl+H to turn on highlighting mod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croll through the counters at the bottom of the display to identify the processes whose threads were running when you moved the mouse, and note whether they were running in user mode or kernel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E7CBC9-05A3-46FC-8FD2-CEAC24A0C3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rocess Explorer</a:t>
            </a:r>
            <a:endParaRPr b="0" lang="en-US" sz="36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View-&gt;System Inform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click the “Show one graph per CPU” in the lower left hand corn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 (part of CRK tool set) and set thread activity to Maximu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100% CPU utilization on one CPU</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run one copy of CPUStres per processo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A50111-0718-4066-A5D0-F3A0D08BE3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Example Screen Snapshot from previous lab</a:t>
            </a:r>
            <a:endParaRPr b="0" lang="en-US" sz="32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1125360"/>
            <a:ext cx="8008920" cy="5324760"/>
          </a:xfrm>
          <a:prstGeom prst="rect">
            <a:avLst/>
          </a:prstGeom>
          <a:ln w="0">
            <a:noFill/>
          </a:ln>
        </p:spPr>
      </p:pic>
      <p:sp>
        <p:nvSpPr>
          <p:cNvPr id="101" name=""/>
          <p:cNvSpPr/>
          <p:nvPr/>
        </p:nvSpPr>
        <p:spPr>
          <a:xfrm>
            <a:off x="431640" y="6021360"/>
            <a:ext cx="1692360" cy="36036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2" name=""/>
          <p:cNvSpPr/>
          <p:nvPr/>
        </p:nvSpPr>
        <p:spPr>
          <a:xfrm>
            <a:off x="3527280" y="1916280"/>
            <a:ext cx="4645080" cy="72072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3564000" y="1916280"/>
            <a:ext cx="4572000" cy="688680"/>
          </a:xfrm>
          <a:prstGeom prst="rect">
            <a:avLst/>
          </a:prstGeom>
          <a:ln w="0">
            <a:noFill/>
          </a:ln>
        </p:spPr>
      </p:pic>
      <p:sp>
        <p:nvSpPr>
          <p:cNvPr id="104" name=""/>
          <p:cNvSpPr/>
          <p:nvPr/>
        </p:nvSpPr>
        <p:spPr>
          <a:xfrm flipH="1">
            <a:off x="3492360" y="1665360"/>
            <a:ext cx="1943280" cy="25092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5" name=""/>
          <p:cNvSpPr/>
          <p:nvPr/>
        </p:nvSpPr>
        <p:spPr>
          <a:xfrm>
            <a:off x="6551640" y="1628640"/>
            <a:ext cx="1620720" cy="28764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6044C8-B6A7-44F1-886F-5B57A98A8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erformance Monitor</a:t>
            </a:r>
            <a:endParaRPr b="0" lang="en-US" sz="36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PUStres (part of CRK tool set) and set priority to “Below Normal” and  activity to “Maximum”</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Performance Tool (perfmon.msc)</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 add counter dialog and select the process object</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CPUStres process and add two counter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User Time and % Privileged Tim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r Time should be near 100%,while % Privileged Time should be small or zero</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the CPUStres window around rapidly and notice % Privileged Time increase due to windowing system call activity</a:t>
            </a: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220249-2FC5-4C55-98BE-205E438AE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w Memory Condition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Monitor (perfmon.msc) and add two counters to the graph:</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 Available Byte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File / % Usag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use a low memory condition, run RamOptimize.exe (part of CRK tool set – source included) and click “Optimize”</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Available Bytes goes down and Paging File usage goes up as RamOptimize process consumes virtual memory</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lete, Available Bytes will be much higher since the RamOptimize process releases all the memory it allocated, causing it to be returned to the syst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32BF67-020F-4133-A538-6A3A55AA1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27T20:39:43Z</dcterms:modified>
  <cp:revision>72</cp:revision>
  <dc:subject>Windows Operating Systems Internals Course</dc:subject>
  <dc:title>Unit OS11: Lab Description &amp; Lab Manual</dc:title>
</cp:coreProperties>
</file>